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png" ContentType="image/png"/>
  <Override PartName="/ppt/media/image23.png" ContentType="image/png"/>
  <Override PartName="/ppt/media/image21.png" ContentType="image/png"/>
  <Override PartName="/ppt/media/image16.jpeg" ContentType="image/jpeg"/>
  <Override PartName="/ppt/media/image15.png" ContentType="image/png"/>
  <Override PartName="/ppt/media/image10.jpeg" ContentType="image/jpeg"/>
  <Override PartName="/ppt/media/image29.png" ContentType="image/png"/>
  <Override PartName="/ppt/media/image31.png" ContentType="image/png"/>
  <Override PartName="/ppt/media/image6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19.jpeg" ContentType="image/jpeg"/>
  <Override PartName="/ppt/media/image11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30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9.png" ContentType="image/pn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83A4-9D74-485E-B9FF-BCA276C6E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CE8A-36C2-4159-B900-B1D6A7E0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78D1-F379-4E02-A1F1-E97B70FC3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677B-BF34-4AD1-949C-CB8A87D58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39D4-280A-4A48-A1BC-80070E271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236880"/>
            <a:ext cx="8229600" cy="72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9ADA-A104-4B88-92B8-02EE5FEC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AEE3-2A1B-4133-86BD-C46C1425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8403-72E0-4236-B52C-34A8E727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742B-65FB-4685-A5D7-183C8587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-671760"/>
            <a:ext cx="8229600" cy="72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A139-ADF9-45E1-831E-C0FB58CD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07D8-A62E-41DE-8663-99D60277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6880"/>
            <a:ext cx="8229600" cy="72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8A41-4C63-423A-A9EB-D020EA3D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F22B-C787-4BB5-906F-9293C055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9131-1829-4C4E-A1D2-67D3B8CB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1733-6DAE-4141-B43C-07ED167E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42E4-A8DB-41F3-96B1-1B447E5CF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558B-69E3-46ED-8810-1049F001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A989-39A3-4905-9265-3127B2A9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E980-E544-45BD-BCBF-2E7D51C6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2EA9-475B-4427-BEDB-26E56E37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671760"/>
            <a:ext cx="8229600" cy="72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64FC-B8C7-4137-B96D-976BCE4D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AF27-3310-44A4-B660-329660EE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3392-B622-4ED6-BACE-E6589901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C359-F783-443B-BE12-C9F7F06C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f4a25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103765320">
              <a:spcBef>
                <a:spcPts val="700"/>
              </a:spcBef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1" marL="557280" indent="-228600">
              <a:spcBef>
                <a:spcPts val="700"/>
              </a:spcBef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2" marL="812880" indent="-228600">
              <a:spcBef>
                <a:spcPts val="700"/>
              </a:spcBef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3" marL="1068480" indent="-228600">
              <a:spcBef>
                <a:spcPts val="700"/>
              </a:spcBef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4" marL="1316160" indent="-228600">
              <a:spcBef>
                <a:spcPts val="700"/>
              </a:spcBef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5" marL="131616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6" marL="131616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339"/>
                </a:solidFill>
                <a:latin typeface="Candara"/>
                <a:ea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339"/>
                </a:solidFill>
                <a:latin typeface="Candara"/>
                <a:ea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339"/>
                </a:solidFill>
                <a:latin typeface="Candara"/>
                <a:ea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DB83-50C1-4D38-921C-A58A84C6865B}" type="slidenum">
              <a:rPr b="0" lang="en-US" sz="1200" spc="-1" strike="noStrike">
                <a:solidFill>
                  <a:srgbClr val="795339"/>
                </a:solidFill>
                <a:latin typeface="Candara"/>
                <a:ea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727200" y="1062000"/>
            <a:ext cx="4600440" cy="3978360"/>
          </a:xfrm>
          <a:prstGeom prst="rect">
            <a:avLst/>
          </a:prstGeom>
          <a:solidFill>
            <a:srgbClr val="2f1e12"/>
          </a:solidFill>
          <a:ln w="0">
            <a:noFill/>
          </a:ln>
          <a:effectLst>
            <a:outerShdw dist="25318" dir="7190755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f4a25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103765320">
              <a:spcBef>
                <a:spcPts val="700"/>
              </a:spcBef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1" marL="557280" indent="-228600">
              <a:spcBef>
                <a:spcPts val="700"/>
              </a:spcBef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2" marL="812880" indent="-228600">
              <a:spcBef>
                <a:spcPts val="700"/>
              </a:spcBef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3" marL="1068480" indent="-228600">
              <a:spcBef>
                <a:spcPts val="700"/>
              </a:spcBef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4" marL="1316160" indent="-228600">
              <a:spcBef>
                <a:spcPts val="700"/>
              </a:spcBef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5" marL="131616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6" marL="131616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339"/>
                </a:solidFill>
                <a:latin typeface="Candara"/>
                <a:ea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339"/>
                </a:solidFill>
                <a:latin typeface="Candara"/>
                <a:ea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339"/>
                </a:solidFill>
                <a:latin typeface="Candara"/>
                <a:ea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2799-B438-4317-89A8-BC8FD8FE1500}" type="slidenum">
              <a:rPr b="0" lang="en-US" sz="1200" spc="-1" strike="noStrike">
                <a:solidFill>
                  <a:srgbClr val="795339"/>
                </a:solidFill>
                <a:latin typeface="Candara"/>
                <a:ea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winchester_mystery_house_san_jose_ca.jpg"/>
          <p:cNvPicPr/>
          <p:nvPr/>
        </p:nvPicPr>
        <p:blipFill>
          <a:blip r:embed="rId1"/>
          <a:stretch/>
        </p:blipFill>
        <p:spPr>
          <a:xfrm>
            <a:off x="-15840" y="1219320"/>
            <a:ext cx="9159840" cy="5867280"/>
          </a:xfrm>
          <a:prstGeom prst="rect">
            <a:avLst/>
          </a:prstGeom>
          <a:ln w="0">
            <a:noFill/>
          </a:ln>
        </p:spPr>
      </p:pic>
      <p:pic>
        <p:nvPicPr>
          <p:cNvPr id="84" name="Title 1" descr=""/>
          <p:cNvPicPr/>
          <p:nvPr/>
        </p:nvPicPr>
        <p:blipFill>
          <a:blip r:embed="rId2"/>
          <a:stretch/>
        </p:blipFill>
        <p:spPr>
          <a:xfrm>
            <a:off x="-85680" y="-384120"/>
            <a:ext cx="930888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6320" y="761760"/>
            <a:ext cx="3581280" cy="609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6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indent="8923788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Baskerville Old Face"/>
                <a:ea typeface="Arial"/>
              </a:rPr>
              <a:t>Repeating number 13 theme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lvl="1" marL="479160" indent="-19656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13 Chandeliers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479160" indent="-19656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13 panes in many windows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479160" indent="-19656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13 bathrooms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479160" indent="-19656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13 steps on most staircases (one has 39)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indent="8923788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indent="8923788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Baskerville Old Face"/>
                <a:ea typeface="Arial"/>
              </a:rPr>
              <a:t>Doors that open into walls 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indent="8923788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indent="8923788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Baskerville Old Face"/>
                <a:ea typeface="Arial"/>
              </a:rPr>
              <a:t>Stairs that lead nowhere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indent="8923788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indent="8923788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Baskerville Old Face"/>
                <a:ea typeface="Arial"/>
              </a:rPr>
              <a:t>Windows that look into walls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indent="8923788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indent="8923788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lvl="1" marL="479160" indent="-19656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indent="8923788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479160" indent="-19656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indent="8923788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479160" indent="-19656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2" marL="698760" indent="-19656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2" marL="698760" indent="-19656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479160" indent="-19656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ndara"/>
            </a:endParaRPr>
          </a:p>
          <a:p>
            <a:pPr lvl="1" marL="479160" indent="-19656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08" name="Rectangle 3" descr=""/>
          <p:cNvPicPr/>
          <p:nvPr/>
        </p:nvPicPr>
        <p:blipFill>
          <a:blip r:embed="rId1"/>
          <a:stretch/>
        </p:blipFill>
        <p:spPr>
          <a:xfrm>
            <a:off x="298440" y="146160"/>
            <a:ext cx="8474040" cy="963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U843671INP.jpg"/>
          <p:cNvPicPr/>
          <p:nvPr/>
        </p:nvPicPr>
        <p:blipFill>
          <a:blip r:embed="rId2"/>
          <a:stretch/>
        </p:blipFill>
        <p:spPr>
          <a:xfrm>
            <a:off x="3733920" y="1523880"/>
            <a:ext cx="5392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Rectangle 3" descr=""/>
          <p:cNvPicPr/>
          <p:nvPr/>
        </p:nvPicPr>
        <p:blipFill>
          <a:blip r:embed="rId1"/>
          <a:stretch/>
        </p:blipFill>
        <p:spPr>
          <a:xfrm>
            <a:off x="4522680" y="-96840"/>
            <a:ext cx="4737240" cy="1749600"/>
          </a:xfrm>
          <a:prstGeom prst="rect">
            <a:avLst/>
          </a:prstGeom>
          <a:ln w="0">
            <a:noFill/>
          </a:ln>
        </p:spPr>
      </p:pic>
      <p:pic>
        <p:nvPicPr>
          <p:cNvPr id="111" name="Content Placeholder 6" descr="untitled.bmp"/>
          <p:cNvPicPr/>
          <p:nvPr/>
        </p:nvPicPr>
        <p:blipFill>
          <a:blip r:embed="rId2"/>
          <a:stretch/>
        </p:blipFill>
        <p:spPr>
          <a:xfrm>
            <a:off x="5486400" y="1486080"/>
            <a:ext cx="3581280" cy="5371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untitled2.bmp"/>
          <p:cNvPicPr/>
          <p:nvPr/>
        </p:nvPicPr>
        <p:blipFill>
          <a:blip r:embed="rId3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caibnet.gif"/>
          <p:cNvPicPr/>
          <p:nvPr/>
        </p:nvPicPr>
        <p:blipFill>
          <a:blip r:embed="rId4"/>
          <a:stretch/>
        </p:blipFill>
        <p:spPr>
          <a:xfrm>
            <a:off x="2590920" y="2666880"/>
            <a:ext cx="27986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75960" y="761760"/>
            <a:ext cx="4800600" cy="609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1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8404956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askerville Old Face"/>
                <a:ea typeface="Arial"/>
              </a:rPr>
              <a:t>Following psychic’s instructions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8404956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askerville Old Face"/>
                <a:ea typeface="Arial"/>
              </a:rPr>
              <a:t>Held seances (spirits “told” her how to build the next day)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8404956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askerville Old Face"/>
                <a:ea typeface="Arial"/>
              </a:rPr>
              <a:t>Strange design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451080" indent="-18504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askerville Old Face"/>
                <a:ea typeface="Arial"/>
              </a:rPr>
              <a:t>Wanted to confuse spirits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lvl="1" marL="451080" indent="-18504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askerville Old Face"/>
                <a:ea typeface="Arial"/>
              </a:rPr>
              <a:t>Wasn’t a trained architect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lvl="1" marL="451080" indent="-185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indent="8404956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askerville Old Face"/>
                <a:ea typeface="Arial"/>
              </a:rPr>
              <a:t>Slept in a different room every nigh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8404956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askerville Old Face"/>
                <a:ea typeface="Arial"/>
              </a:rPr>
              <a:t>Believed if she stopped building, she would die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8404956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8404956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451080" indent="-18504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8404956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lvl="1" marL="451080" indent="-18504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indent="8404956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451080" indent="-18504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2" marL="658080" indent="-18504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2" marL="658080" indent="-18504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1" marL="451080" indent="-18504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lvl="1" marL="451080" indent="-18504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15" name="Rectangle 3" descr=""/>
          <p:cNvPicPr/>
          <p:nvPr/>
        </p:nvPicPr>
        <p:blipFill>
          <a:blip r:embed="rId1"/>
          <a:stretch/>
        </p:blipFill>
        <p:spPr>
          <a:xfrm>
            <a:off x="225360" y="146160"/>
            <a:ext cx="8601120" cy="96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e551ec41-1cca-4e5a-968a-2637082d2168.jpg"/>
          <p:cNvPicPr/>
          <p:nvPr/>
        </p:nvPicPr>
        <p:blipFill>
          <a:blip r:embed="rId2"/>
          <a:stretch/>
        </p:blipFill>
        <p:spPr>
          <a:xfrm>
            <a:off x="4762440" y="1066680"/>
            <a:ext cx="4381560" cy="2921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http://www.winchestermysteryhouse.com/wmhpress/Stairs.jpg"/>
          <p:cNvPicPr/>
          <p:nvPr/>
        </p:nvPicPr>
        <p:blipFill>
          <a:blip r:embed="rId3"/>
          <a:stretch/>
        </p:blipFill>
        <p:spPr>
          <a:xfrm>
            <a:off x="4737240" y="3971880"/>
            <a:ext cx="440676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75960" y="761760"/>
            <a:ext cx="4800600" cy="609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lvl="1" marL="557280" indent="-22860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lvl="1" marL="557280" indent="-22860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indent="10376532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1" marL="557280" indent="-22860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ndara"/>
            </a:endParaRPr>
          </a:p>
          <a:p>
            <a:pPr lvl="2" marL="812880" indent="-228600">
              <a:lnSpc>
                <a:spcPct val="10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ndara"/>
            </a:endParaRPr>
          </a:p>
          <a:p>
            <a:pPr lvl="2" marL="812880" indent="-228600">
              <a:lnSpc>
                <a:spcPct val="10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ndara"/>
            </a:endParaRPr>
          </a:p>
          <a:p>
            <a:pPr lvl="1" marL="557280" indent="-22860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57280" indent="-22860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19" name="Rectangle 3" descr=""/>
          <p:cNvPicPr/>
          <p:nvPr/>
        </p:nvPicPr>
        <p:blipFill>
          <a:blip r:embed="rId1"/>
          <a:stretch/>
        </p:blipFill>
        <p:spPr>
          <a:xfrm>
            <a:off x="298440" y="-85680"/>
            <a:ext cx="8474040" cy="963720"/>
          </a:xfrm>
          <a:prstGeom prst="rect">
            <a:avLst/>
          </a:prstGeom>
          <a:ln w="0">
            <a:noFill/>
          </a:ln>
        </p:spPr>
      </p:pic>
      <p:sp>
        <p:nvSpPr>
          <p:cNvPr id="120" name="Content Placeholder 2"/>
          <p:cNvSpPr/>
          <p:nvPr/>
        </p:nvSpPr>
        <p:spPr>
          <a:xfrm>
            <a:off x="228600" y="380880"/>
            <a:ext cx="312408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skerville Old Face"/>
                <a:ea typeface="Candara"/>
              </a:rPr>
              <a:t>Earthquake in 1906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skerville Old Face"/>
                <a:ea typeface="Candara"/>
              </a:rPr>
              <a:t>Top 3 stories collapsed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skerville Old Face"/>
                <a:ea typeface="Candara"/>
              </a:rPr>
              <a:t>Sarah trapped in her room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skerville Old Face"/>
                <a:ea typeface="Candara"/>
              </a:rPr>
              <a:t>Convinced spirits were angry because house almost complete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lvl="1" marL="557280" indent="-22860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lvl="1" marL="557280" indent="-22860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1" marL="557280" indent="-22860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ndara"/>
            </a:endParaRPr>
          </a:p>
          <a:p>
            <a:pPr lvl="2" marL="812880" indent="-228600">
              <a:lnSpc>
                <a:spcPct val="10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ndara"/>
            </a:endParaRPr>
          </a:p>
          <a:p>
            <a:pPr lvl="2" marL="812880" indent="-228600">
              <a:lnSpc>
                <a:spcPct val="10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ndara"/>
            </a:endParaRPr>
          </a:p>
          <a:p>
            <a:pPr lvl="1" marL="557280" indent="-22860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57280" indent="-22860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21" name="Picture 2" descr="http://www.altereddimensions.net/images/places/WinchesterMysteryHouse1.gif"/>
          <p:cNvPicPr/>
          <p:nvPr/>
        </p:nvPicPr>
        <p:blipFill>
          <a:blip r:embed="rId2"/>
          <a:stretch/>
        </p:blipFill>
        <p:spPr>
          <a:xfrm>
            <a:off x="3578400" y="3276720"/>
            <a:ext cx="5565600" cy="35812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7"/>
          <p:cNvSpPr/>
          <p:nvPr/>
        </p:nvSpPr>
        <p:spPr>
          <a:xfrm>
            <a:off x="3581280" y="685800"/>
            <a:ext cx="556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skerville Old Face"/>
                <a:ea typeface="Candara"/>
              </a:rPr>
              <a:t>Boarded up front 30 rooms of house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1" marL="457200" indent="-272880">
              <a:lnSpc>
                <a:spcPct val="100000"/>
              </a:lnSpc>
              <a:buClr>
                <a:srgbClr val="ad2e2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skerville Old Face"/>
                <a:ea typeface="Candara"/>
              </a:rPr>
              <a:t>Ensure house would never be complete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1" marL="457200" indent="-272880">
              <a:lnSpc>
                <a:spcPct val="100000"/>
              </a:lnSpc>
              <a:buClr>
                <a:srgbClr val="ad2e2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skerville Old Face"/>
                <a:ea typeface="Candara"/>
              </a:rPr>
              <a:t>Trap spirits that fell through the floors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28240" y="1295280"/>
            <a:ext cx="4876920" cy="510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indent="7989912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askerville Old Face"/>
                <a:ea typeface="Arial"/>
              </a:rPr>
              <a:t>All building stopped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indent="7989912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askerville Old Face"/>
                <a:ea typeface="Arial"/>
              </a:rPr>
              <a:t>Left possessions to niece, Frances Marriot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indent="7989912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askerville Old Face"/>
                <a:ea typeface="Arial"/>
              </a:rPr>
              <a:t>Took 6 weeks to remove furniture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indent="7989912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askerville Old Face"/>
                <a:ea typeface="Arial"/>
              </a:rPr>
              <a:t>House auctioned to investors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indent="7989912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askerville Old Face"/>
                <a:ea typeface="Arial"/>
              </a:rPr>
              <a:t>Turned into a tourist attraction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indent="7989912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indent="7989912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indent="7989912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lvl="1" marL="428760" indent="-17568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indent="7989912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lvl="1" marL="428760" indent="-17568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indent="7989912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1" marL="428760" indent="-17568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ndara"/>
            </a:endParaRPr>
          </a:p>
          <a:p>
            <a:pPr lvl="2" marL="625680" indent="-175680">
              <a:lnSpc>
                <a:spcPct val="10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ndara"/>
            </a:endParaRPr>
          </a:p>
          <a:p>
            <a:pPr lvl="2" marL="625680" indent="-175680">
              <a:lnSpc>
                <a:spcPct val="10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ndara"/>
            </a:endParaRPr>
          </a:p>
          <a:p>
            <a:pPr lvl="1" marL="428760" indent="-17568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428760" indent="-17568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24" name="Rectangle 3" descr=""/>
          <p:cNvPicPr/>
          <p:nvPr/>
        </p:nvPicPr>
        <p:blipFill>
          <a:blip r:embed="rId1"/>
          <a:stretch/>
        </p:blipFill>
        <p:spPr>
          <a:xfrm>
            <a:off x="298440" y="-237960"/>
            <a:ext cx="8474040" cy="1377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http://farm3.static.flickr.com/2382/2506934308_a8bc13e952_b.jpg"/>
          <p:cNvPicPr/>
          <p:nvPr/>
        </p:nvPicPr>
        <p:blipFill>
          <a:blip r:embed="rId2"/>
          <a:srcRect l="41629" t="17564" r="0" b="0"/>
          <a:stretch/>
        </p:blipFill>
        <p:spPr>
          <a:xfrm>
            <a:off x="5257800" y="968400"/>
            <a:ext cx="388620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28240" y="1295280"/>
            <a:ext cx="3886200" cy="510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5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indent="88200360">
              <a:lnSpc>
                <a:spcPct val="9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askerville Old Face"/>
                <a:ea typeface="Arial"/>
              </a:rPr>
              <a:t>Many visiting psychics claim to see spirits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indent="88200360">
              <a:lnSpc>
                <a:spcPct val="9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askerville Old Face"/>
                <a:ea typeface="Arial"/>
              </a:rPr>
              <a:t>Numerous claims of ghost sightings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indent="88200360">
              <a:lnSpc>
                <a:spcPct val="9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askerville Old Face"/>
                <a:ea typeface="Arial"/>
              </a:rPr>
              <a:t>Employees/Visitors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1" marL="473400" indent="-194040">
              <a:lnSpc>
                <a:spcPct val="9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askerville Old Face"/>
                <a:ea typeface="Arial"/>
              </a:rPr>
              <a:t>Footsteps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473400" indent="-194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473400" indent="-194040">
              <a:lnSpc>
                <a:spcPct val="9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askerville Old Face"/>
                <a:ea typeface="Arial"/>
              </a:rPr>
              <a:t>Banging doors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473400" indent="-194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473400" indent="-194040">
              <a:lnSpc>
                <a:spcPct val="9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askerville Old Face"/>
                <a:ea typeface="Arial"/>
              </a:rPr>
              <a:t>Mysterious voices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indent="88200360">
              <a:lnSpc>
                <a:spcPct val="9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indent="88200360">
              <a:lnSpc>
                <a:spcPct val="9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indent="88200360">
              <a:lnSpc>
                <a:spcPct val="9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lvl="1" marL="473400" indent="-194040">
              <a:lnSpc>
                <a:spcPct val="9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indent="88200360">
              <a:lnSpc>
                <a:spcPct val="9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lvl="1" marL="473400" indent="-194040">
              <a:lnSpc>
                <a:spcPct val="9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indent="88200360">
              <a:lnSpc>
                <a:spcPct val="9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1" marL="473400" indent="-194040">
              <a:lnSpc>
                <a:spcPct val="9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ndara"/>
            </a:endParaRPr>
          </a:p>
          <a:p>
            <a:pPr lvl="2" marL="690840" indent="-194040">
              <a:lnSpc>
                <a:spcPct val="9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ndara"/>
            </a:endParaRPr>
          </a:p>
          <a:p>
            <a:pPr lvl="2" marL="690840" indent="-194040">
              <a:lnSpc>
                <a:spcPct val="9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ndara"/>
            </a:endParaRPr>
          </a:p>
          <a:p>
            <a:pPr lvl="1" marL="473400" indent="-194040">
              <a:lnSpc>
                <a:spcPct val="9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473400" indent="-194040">
              <a:lnSpc>
                <a:spcPct val="9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27" name="Rectangle 3" descr=""/>
          <p:cNvPicPr/>
          <p:nvPr/>
        </p:nvPicPr>
        <p:blipFill>
          <a:blip r:embed="rId1"/>
          <a:stretch/>
        </p:blipFill>
        <p:spPr>
          <a:xfrm>
            <a:off x="298440" y="-237960"/>
            <a:ext cx="8474040" cy="1390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http://www.psychics.co.uk/imagesghosts/tony_sandoval.jpg"/>
          <p:cNvPicPr/>
          <p:nvPr/>
        </p:nvPicPr>
        <p:blipFill>
          <a:blip r:embed="rId2"/>
          <a:stretch/>
        </p:blipFill>
        <p:spPr>
          <a:xfrm>
            <a:off x="4114800" y="201924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28240" y="1295280"/>
            <a:ext cx="3886200" cy="510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indent="7471080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askerville Old Face"/>
                <a:ea typeface="Arial"/>
              </a:rPr>
              <a:t>Windows bang so hard they shatter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indent="7471080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askerville Old Face"/>
                <a:ea typeface="Arial"/>
              </a:rPr>
              <a:t>Cold spots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indent="7471080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askerville Old Face"/>
                <a:ea typeface="Arial"/>
              </a:rPr>
              <a:t>Strange moving lights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indent="7471080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askerville Old Face"/>
                <a:ea typeface="Arial"/>
              </a:rPr>
              <a:t>Doorknobs that move by themselves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indent="7471080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askerville Old Face"/>
                <a:ea typeface="Arial"/>
              </a:rPr>
              <a:t>Light orbs in pictures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indent="7471080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indent="7471080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indent="7471080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lvl="1" marL="401040" indent="-16452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indent="7471080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lvl="1" marL="401040" indent="-16452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indent="7471080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1" marL="401040" indent="-16452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ndara"/>
            </a:endParaRPr>
          </a:p>
          <a:p>
            <a:pPr lvl="2" marL="585000" indent="-164520">
              <a:lnSpc>
                <a:spcPct val="10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ndara"/>
            </a:endParaRPr>
          </a:p>
          <a:p>
            <a:pPr lvl="2" marL="585000" indent="-164520">
              <a:lnSpc>
                <a:spcPct val="10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ndara"/>
            </a:endParaRPr>
          </a:p>
          <a:p>
            <a:pPr lvl="1" marL="401040" indent="-16452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401040" indent="-16452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30" name="Rectangle 3" descr=""/>
          <p:cNvPicPr/>
          <p:nvPr/>
        </p:nvPicPr>
        <p:blipFill>
          <a:blip r:embed="rId1"/>
          <a:stretch/>
        </p:blipFill>
        <p:spPr>
          <a:xfrm>
            <a:off x="298440" y="-237960"/>
            <a:ext cx="8474040" cy="1390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http://farm4.static.flickr.com/3064/2588795680_ec5a73d539.jpg?v=0"/>
          <p:cNvPicPr/>
          <p:nvPr/>
        </p:nvPicPr>
        <p:blipFill>
          <a:blip r:embed="rId2"/>
          <a:stretch/>
        </p:blipFill>
        <p:spPr>
          <a:xfrm>
            <a:off x="4267080" y="182880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28600" y="304920"/>
            <a:ext cx="876312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indent="9131328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Sarah was mentally unstable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490320" indent="-20088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Suffered severe depression from the loss of her husband and daughter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490320" indent="-20088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Was not in a good mental state when she went to a psychic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490320" indent="-20088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Lived as a recluse for 38 years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490320" indent="-20088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Lack of communication with people did not help her sanity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490320" indent="-20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indent="9131328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Bizarre events can be explained: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490320" indent="-20088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Light orbs are reflections of flash off of dust particles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490320" indent="-20088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Cold spots are normal in a huge house with inconsistent heating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490320" indent="-20088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Strange noises in a house where tours are given could be explained by other tourists making them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490320" indent="-20088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People want to see ghosts so badly, they interpret normal events as ghosts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490320" indent="-20088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There are so many windows, some are bound to break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490320" indent="-20088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490320" indent="-20088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indent="9131328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indent="9131328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indent="9131328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lvl="1" marL="490320" indent="-20088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ndara"/>
            </a:endParaRPr>
          </a:p>
          <a:p>
            <a:pPr indent="9131328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lvl="1" marL="490320" indent="-20088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indent="91313280">
              <a:lnSpc>
                <a:spcPct val="10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1" marL="490320" indent="-20088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ndara"/>
            </a:endParaRPr>
          </a:p>
          <a:p>
            <a:pPr lvl="2" marL="715320" indent="-200880">
              <a:lnSpc>
                <a:spcPct val="10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ndara"/>
            </a:endParaRPr>
          </a:p>
          <a:p>
            <a:pPr lvl="2" marL="715320" indent="-200880">
              <a:lnSpc>
                <a:spcPct val="10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ndara"/>
            </a:endParaRPr>
          </a:p>
          <a:p>
            <a:pPr lvl="1" marL="490320" indent="-20088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490320" indent="-200880">
              <a:lnSpc>
                <a:spcPct val="10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tretch/>
        </p:blipFill>
        <p:spPr>
          <a:xfrm>
            <a:off x="298440" y="-390600"/>
            <a:ext cx="84740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Rectangle 5" descr=""/>
          <p:cNvPicPr/>
          <p:nvPr/>
        </p:nvPicPr>
        <p:blipFill>
          <a:blip r:embed="rId1"/>
          <a:stretch/>
        </p:blipFill>
        <p:spPr>
          <a:xfrm>
            <a:off x="298440" y="378000"/>
            <a:ext cx="84740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-360" y="137160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6000"/>
          </a:bodyPr>
          <a:p>
            <a:pPr indent="9961452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William Wirt Winchester</a:t>
            </a:r>
            <a:r>
              <a:rPr b="0" lang="en-US" sz="3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lvl="1" marL="534960" indent="-21924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Born  - June 22, 1837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34960" indent="-21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34960" indent="-21924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Married Sarah Lockwood Pardee – September 30, 1862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34960" indent="-21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34960" indent="-21924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Had one child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2" marL="780120" indent="-21924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Annie Pardee Winchester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2" marL="780120" indent="-21924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Born July 15, 1866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2" marL="780120" indent="-21924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Died July 24, 1866, of marasmus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2" marL="780120" indent="-21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34960" indent="-21924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Father – Oliver Fisher Winchester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2" marL="780120" indent="-21924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Manufactured and marketed the Winchester repeating rifle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2" marL="780120" indent="-21924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Died on December 11, 1880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2" marL="780120" indent="-21924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Ownership of company given to William Winchester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2" marL="780120" indent="-21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34960" indent="-21924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Died March 7, 1881 of tuberculosis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2" marL="780120" indent="-21924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2" marL="780120" indent="-21924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34960" indent="-21924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ndara"/>
            </a:endParaRPr>
          </a:p>
          <a:p>
            <a:pPr lvl="1" marL="534960" indent="-21924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86" name="Rectangle 3" descr=""/>
          <p:cNvPicPr/>
          <p:nvPr/>
        </p:nvPicPr>
        <p:blipFill>
          <a:blip r:embed="rId1"/>
          <a:stretch/>
        </p:blipFill>
        <p:spPr>
          <a:xfrm>
            <a:off x="835200" y="-12600"/>
            <a:ext cx="7553160" cy="2322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ttp://s3.amazonaws.com/findagrave/photos/2001/222/paradeesarahloc.jpg"/>
          <p:cNvPicPr/>
          <p:nvPr/>
        </p:nvPicPr>
        <p:blipFill>
          <a:blip r:embed="rId2"/>
          <a:stretch/>
        </p:blipFill>
        <p:spPr>
          <a:xfrm>
            <a:off x="5899320" y="1905120"/>
            <a:ext cx="3244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-360" y="1371600"/>
            <a:ext cx="5334120" cy="54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3000"/>
          </a:bodyPr>
          <a:p>
            <a:pPr indent="9650160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askerville Old Face"/>
                <a:ea typeface="Arial"/>
              </a:rPr>
              <a:t>Sarah Lockwood Pardee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Born  in 1839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Death of only child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2" marL="755640" indent="-21240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Became deeply depressed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2" marL="755640" indent="-21240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Never had any more children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Father-in-law and husband died within 3 months of each other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2" marL="755640" indent="-212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50% ownership of Winchester Company upon husband’s death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Income $1,000 a day (equal to $22,000 a day in 2008)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Died September 5, 1922 – 83 years old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2" marL="755640" indent="-21240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2" marL="755640" indent="-21240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1"/>
          <a:stretch/>
        </p:blipFill>
        <p:spPr>
          <a:xfrm>
            <a:off x="835200" y="-12600"/>
            <a:ext cx="7553160" cy="2322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Winchesterframe.jpg"/>
          <p:cNvPicPr/>
          <p:nvPr/>
        </p:nvPicPr>
        <p:blipFill>
          <a:blip r:embed="rId2"/>
          <a:stretch/>
        </p:blipFill>
        <p:spPr>
          <a:xfrm>
            <a:off x="5327640" y="1752480"/>
            <a:ext cx="3740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ShockwaveFlash1" descr=""/>
          <p:cNvPicPr/>
          <p:nvPr/>
        </p:nvPicPr>
        <p:blipFill>
          <a:blip r:embed="rId1"/>
          <a:stretch/>
        </p:blipFill>
        <p:spPr>
          <a:xfrm>
            <a:off x="914400" y="-152280"/>
            <a:ext cx="739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-360" y="1371600"/>
            <a:ext cx="5334120" cy="54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3000"/>
          </a:bodyPr>
          <a:p>
            <a:pPr indent="9650160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Winchester Mystery House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Sarah - convinced Winchester family was cursed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Went to a psychic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2" marL="755640" indent="-21240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Family cursed by spirits killed by Winchester rifle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2" marL="755640" indent="-21240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Should move west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2" marL="755640" indent="-21240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Build house for herself and spirits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2" marL="755640" indent="-21240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Construction should not stop or Sarah would die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2" marL="755640" indent="-212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Moved to San Jose, California from Connecticut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Bought eight-room farmhouse on 162 acres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lvl="2" marL="755640" indent="-21240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lvl="2" marL="755640" indent="-21240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518040" indent="-21240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93" name="Rectangle 3" descr=""/>
          <p:cNvPicPr/>
          <p:nvPr/>
        </p:nvPicPr>
        <p:blipFill>
          <a:blip r:embed="rId1"/>
          <a:stretch/>
        </p:blipFill>
        <p:spPr>
          <a:xfrm>
            <a:off x="835200" y="-12600"/>
            <a:ext cx="7553160" cy="2322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files3730.jpg"/>
          <p:cNvPicPr/>
          <p:nvPr/>
        </p:nvPicPr>
        <p:blipFill>
          <a:blip r:embed="rId2"/>
          <a:stretch/>
        </p:blipFill>
        <p:spPr>
          <a:xfrm>
            <a:off x="5029200" y="2209680"/>
            <a:ext cx="47750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75960" y="1447920"/>
            <a:ext cx="5105160" cy="54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4000"/>
          </a:bodyPr>
          <a:p>
            <a:pPr indent="8716284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How did Sarah keep building constantly according to the psychic’s directions?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indent="8716284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How big is the house?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indent="8716284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indent="8716284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What are some unique features of the house?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indent="8716284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Why did Sarah build the house the way she did?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indent="8716284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What happened after the earthquake?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indent="8716284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What happened to the house after Sarah died?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indent="8716284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Is the Winchester House haunted?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indent="8716284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468000" indent="-19188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lvl="2" marL="682560" indent="-19188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lvl="2" marL="682560" indent="-19188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lvl="1" marL="468000" indent="-19188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 lvl="1" marL="468000" indent="-19188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96" name="Rectangle 3" descr=""/>
          <p:cNvPicPr/>
          <p:nvPr/>
        </p:nvPicPr>
        <p:blipFill>
          <a:blip r:embed="rId1"/>
          <a:stretch/>
        </p:blipFill>
        <p:spPr>
          <a:xfrm>
            <a:off x="835200" y="-12600"/>
            <a:ext cx="7553160" cy="232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300_153971.jpg"/>
          <p:cNvPicPr/>
          <p:nvPr/>
        </p:nvPicPr>
        <p:blipFill>
          <a:blip r:embed="rId2"/>
          <a:stretch/>
        </p:blipFill>
        <p:spPr>
          <a:xfrm>
            <a:off x="5313240" y="2093760"/>
            <a:ext cx="383076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75960" y="144756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3000"/>
          </a:bodyPr>
          <a:p>
            <a:pPr indent="86124960">
              <a:lnSpc>
                <a:spcPct val="9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Plenty of money ($20 million dollar inheritance)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indent="86124960">
              <a:lnSpc>
                <a:spcPct val="9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Hired workers to build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lvl="1" marL="462240" indent="-189720">
              <a:lnSpc>
                <a:spcPct val="9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Baskerville Old Face"/>
                <a:ea typeface="Arial"/>
              </a:rPr>
              <a:t>13 full-time workers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lvl="1" marL="462240" indent="-189720">
              <a:lnSpc>
                <a:spcPct val="9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Baskerville Old Face"/>
                <a:ea typeface="Arial"/>
              </a:rPr>
              <a:t>24 hours a day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lvl="1" marL="462240" indent="-189720">
              <a:lnSpc>
                <a:spcPct val="9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Baskerville Old Face"/>
                <a:ea typeface="Arial"/>
              </a:rPr>
              <a:t>7 days a week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lvl="1" marL="462240" indent="-189720">
              <a:lnSpc>
                <a:spcPct val="9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Baskerville Old Face"/>
                <a:ea typeface="Arial"/>
              </a:rPr>
              <a:t>365 days a year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lvl="1" marL="462240" indent="-189720">
              <a:lnSpc>
                <a:spcPct val="9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Baskerville Old Face"/>
                <a:ea typeface="Arial"/>
              </a:rPr>
              <a:t>For the next 38 years!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lvl="1" marL="462240" indent="-1897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  <a:p>
            <a:pPr indent="86124960">
              <a:lnSpc>
                <a:spcPct val="9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Workers caught not working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Baskerville Old Face"/>
                <a:ea typeface="Arial"/>
              </a:rPr>
              <a:t>immediately fired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indent="86124960">
              <a:lnSpc>
                <a:spcPct val="9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462240" indent="-189720">
              <a:lnSpc>
                <a:spcPct val="9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lvl="2" marL="674640" indent="-189720">
              <a:lnSpc>
                <a:spcPct val="9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lvl="2" marL="674640" indent="-189720">
              <a:lnSpc>
                <a:spcPct val="9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ndara"/>
            </a:endParaRPr>
          </a:p>
          <a:p>
            <a:pPr lvl="1" marL="462240" indent="-189720">
              <a:lnSpc>
                <a:spcPct val="9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462240" indent="-189720">
              <a:lnSpc>
                <a:spcPct val="9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99" name="Rectangle 3" descr=""/>
          <p:cNvPicPr/>
          <p:nvPr/>
        </p:nvPicPr>
        <p:blipFill>
          <a:blip r:embed="rId1"/>
          <a:stretch/>
        </p:blipFill>
        <p:spPr>
          <a:xfrm>
            <a:off x="835200" y="133200"/>
            <a:ext cx="7553160" cy="1463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http://farm3.static.flickr.com/2252/2043036440_8222b3f99d_b.jpg"/>
          <p:cNvPicPr/>
          <p:nvPr/>
        </p:nvPicPr>
        <p:blipFill>
          <a:blip r:embed="rId2"/>
          <a:stretch/>
        </p:blipFill>
        <p:spPr>
          <a:xfrm>
            <a:off x="4915080" y="1219320"/>
            <a:ext cx="4228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75960" y="762120"/>
            <a:ext cx="4724280" cy="54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75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7782372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askerville Old Face"/>
                <a:ea typeface="Arial"/>
              </a:rPr>
              <a:t>Covers 4 acres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7782372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askerville Old Face"/>
                <a:ea typeface="Arial"/>
              </a:rPr>
              <a:t>Had 7 stories (earthquake brought it down to 4 stories)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7782372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askerville Old Face"/>
                <a:ea typeface="Arial"/>
              </a:rPr>
              <a:t>2 functional basements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7782372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askerville Old Face"/>
                <a:ea typeface="Arial"/>
              </a:rPr>
              <a:t>160 rooms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417960" indent="-17136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askerville Old Face"/>
                <a:ea typeface="Arial"/>
              </a:rPr>
              <a:t>40 bedrooms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lvl="1" marL="417960" indent="-17136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askerville Old Face"/>
                <a:ea typeface="Arial"/>
              </a:rPr>
              <a:t>13 bathrooms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lvl="1" marL="417960" indent="-17136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askerville Old Face"/>
                <a:ea typeface="Arial"/>
              </a:rPr>
              <a:t>5 kitchens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lvl="1" marL="417960" indent="-171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indent="7782372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askerville Old Face"/>
                <a:ea typeface="Arial"/>
              </a:rPr>
              <a:t>To paint entire house 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000000"/>
                </a:solidFill>
                <a:latin typeface="Baskerville Old Face"/>
                <a:ea typeface="Arial"/>
              </a:rPr>
              <a:t> 20,000 gallons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7782372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lvl="1" marL="417960" indent="-17136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indent="7782372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417960" indent="-17136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2" marL="609480" indent="-17136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2" marL="609480" indent="-17136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1" marL="417960" indent="-17136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lvl="1" marL="417960" indent="-17136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02" name="Rectangle 3" descr=""/>
          <p:cNvPicPr/>
          <p:nvPr/>
        </p:nvPicPr>
        <p:blipFill>
          <a:blip r:embed="rId1"/>
          <a:stretch/>
        </p:blipFill>
        <p:spPr>
          <a:xfrm>
            <a:off x="835200" y="146160"/>
            <a:ext cx="7553160" cy="963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http://www.strangetastic.com/photos/Deadroom_1.jpg"/>
          <p:cNvPicPr/>
          <p:nvPr/>
        </p:nvPicPr>
        <p:blipFill>
          <a:blip r:embed="rId2"/>
          <a:stretch/>
        </p:blipFill>
        <p:spPr>
          <a:xfrm>
            <a:off x="4800600" y="1219320"/>
            <a:ext cx="6629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75960" y="762120"/>
            <a:ext cx="4724280" cy="54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69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7159788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askerville Old Face"/>
                <a:ea typeface="Arial"/>
              </a:rPr>
              <a:t>3 elevators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7159788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askerville Old Face"/>
                <a:ea typeface="Arial"/>
              </a:rPr>
              <a:t>47 fireplaces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7159788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askerville Old Face"/>
                <a:ea typeface="Arial"/>
              </a:rPr>
              <a:t>@1,257 window frames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7159788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askerville Old Face"/>
                <a:ea typeface="Arial"/>
              </a:rPr>
              <a:t>@10,000 window panes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7159788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askerville Old Face"/>
                <a:ea typeface="Arial"/>
              </a:rPr>
              <a:t>467 doorways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7159788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askerville Old Face"/>
                <a:ea typeface="Arial"/>
              </a:rPr>
              <a:t>950 doors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7159788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askerville Old Face"/>
                <a:ea typeface="Arial"/>
              </a:rPr>
              <a:t>40 staircases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indent="7159788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lvl="1" marL="384480" indent="-15768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indent="7159788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384480" indent="-15768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2" marL="560880" indent="-15768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2" marL="560880" indent="-157680">
              <a:lnSpc>
                <a:spcPct val="80000"/>
              </a:lnSpc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lvl="1" marL="384480" indent="-15768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lvl="1" marL="384480" indent="-157680">
              <a:lnSpc>
                <a:spcPct val="80000"/>
              </a:lnSpc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05" name="Rectangle 3" descr=""/>
          <p:cNvPicPr/>
          <p:nvPr/>
        </p:nvPicPr>
        <p:blipFill>
          <a:blip r:embed="rId1"/>
          <a:stretch/>
        </p:blipFill>
        <p:spPr>
          <a:xfrm>
            <a:off x="835200" y="146160"/>
            <a:ext cx="7553160" cy="963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http://www.dkimages.com/discover/previews/875/20174859.JPG"/>
          <p:cNvPicPr/>
          <p:nvPr/>
        </p:nvPicPr>
        <p:blipFill>
          <a:blip r:embed="rId2"/>
          <a:stretch/>
        </p:blipFill>
        <p:spPr>
          <a:xfrm>
            <a:off x="5110200" y="762120"/>
            <a:ext cx="388152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00:33:40Z</dcterms:created>
  <dc:creator>Andrea R. Riley</dc:creator>
  <dc:description/>
  <dc:language>en-US</dc:language>
  <cp:lastModifiedBy>Andrea R. Riley</cp:lastModifiedBy>
  <dcterms:modified xsi:type="dcterms:W3CDTF">2009-03-05T04:34:23Z</dcterms:modified>
  <cp:revision>13</cp:revision>
  <dc:subject/>
  <dc:title>Winchester Mystery House</dc:title>
</cp:coreProperties>
</file>